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F58-924E-4DDA-B821-109EEA8E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063-4643-43D5-B3EE-183A654F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77C-195F-47D3-84EB-4046A2DA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F74-72B0-4C1E-94A2-9B9805B9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933-2436-4BB1-B4F7-D5ABDFBC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724-DA6A-4B3F-B303-76051F8F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046-B5C3-4C12-BDD3-2D8BD877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350-1936-4111-88A4-E2AACA09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0A8-3EFB-4C2C-BFAF-11F891D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8A9-DC85-40D8-83A6-E5BB78C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964-095E-4810-A8C2-42E2A25A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CB5-A34C-4C43-A363-327F658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B5D6-D8D6-499C-8266-3E46806E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QK_EfToE74rem6kcB6E83njgc6jD9l8GDLomTWOFwgyu0QEg-Bjw"/>
          <p:cNvPicPr/>
          <p:nvPr/>
        </p:nvPicPr>
        <p:blipFill>
          <a:blip r:embed="rId1"/>
          <a:stretch/>
        </p:blipFill>
        <p:spPr>
          <a:xfrm>
            <a:off x="0" y="0"/>
            <a:ext cx="2286000" cy="151596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7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7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A-Walk-To-Remember-a-walk-to-remember-2021433-852-480"/>
          <p:cNvPicPr/>
          <p:nvPr/>
        </p:nvPicPr>
        <p:blipFill>
          <a:blip r:embed="rId2"/>
          <a:stretch/>
        </p:blipFill>
        <p:spPr>
          <a:xfrm>
            <a:off x="5067360" y="0"/>
            <a:ext cx="3581280" cy="20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A-WALK-TO-REMEMBER-a-walk-to-remember-618029_800_604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7254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9"/>
          <p:cNvSpPr/>
          <p:nvPr/>
        </p:nvSpPr>
        <p:spPr>
          <a:xfrm>
            <a:off x="4952880" y="1600200"/>
            <a:ext cx="2847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5"/>
          <p:cNvSpPr/>
          <p:nvPr/>
        </p:nvSpPr>
        <p:spPr>
          <a:xfrm>
            <a:off x="3809880" y="2819520"/>
            <a:ext cx="1524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7" descr="2255257"/>
          <p:cNvPicPr/>
          <p:nvPr/>
        </p:nvPicPr>
        <p:blipFill>
          <a:blip r:embed="rId4"/>
          <a:stretch/>
        </p:blipFill>
        <p:spPr>
          <a:xfrm>
            <a:off x="2286000" y="-14400"/>
            <a:ext cx="2019240" cy="161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1" descr="444555_1274093838366_full"/>
          <p:cNvPicPr/>
          <p:nvPr/>
        </p:nvPicPr>
        <p:blipFill>
          <a:blip r:embed="rId5"/>
          <a:stretch/>
        </p:blipFill>
        <p:spPr>
          <a:xfrm>
            <a:off x="6858000" y="1676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5" descr="444555_1284130506794_full"/>
          <p:cNvPicPr/>
          <p:nvPr/>
        </p:nvPicPr>
        <p:blipFill>
          <a:blip r:embed="rId6"/>
          <a:stretch/>
        </p:blipFill>
        <p:spPr>
          <a:xfrm>
            <a:off x="-27000" y="327024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7"/>
          <p:cNvSpPr/>
          <p:nvPr/>
        </p:nvSpPr>
        <p:spPr>
          <a:xfrm>
            <a:off x="0" y="-20520"/>
            <a:ext cx="3000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1" descr="0001wtyh"/>
          <p:cNvPicPr/>
          <p:nvPr/>
        </p:nvPicPr>
        <p:blipFill>
          <a:blip r:embed="rId7"/>
          <a:stretch/>
        </p:blipFill>
        <p:spPr>
          <a:xfrm>
            <a:off x="2971800" y="5232240"/>
            <a:ext cx="3324240" cy="162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2" descr="ANd9GcSpzdBzMxa2OJdsNeqX0sUxil2j-jDIXXgbOY_nEkMN6kvI3rW_fA"/>
          <p:cNvPicPr/>
          <p:nvPr/>
        </p:nvPicPr>
        <p:blipFill>
          <a:blip r:embed="rId8"/>
          <a:stretch/>
        </p:blipFill>
        <p:spPr>
          <a:xfrm>
            <a:off x="7467480" y="3200400"/>
            <a:ext cx="167652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4" descr="ANd9GcSSB5Qjk493ucbfnhWtgjwEh6y20YssViwQUmxIW-drNYXuDNV2GQ"/>
          <p:cNvPicPr/>
          <p:nvPr/>
        </p:nvPicPr>
        <p:blipFill>
          <a:blip r:embed="rId9"/>
          <a:stretch/>
        </p:blipFill>
        <p:spPr>
          <a:xfrm>
            <a:off x="6296040" y="524844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6" descr="ANd9GcSZeHy-l3iP5feYAIpDmjK6LY5LuM72Zx5rQmnSj3MnjPRIhAjb"/>
          <p:cNvPicPr/>
          <p:nvPr/>
        </p:nvPicPr>
        <p:blipFill>
          <a:blip r:embed="rId10"/>
          <a:stretch/>
        </p:blipFill>
        <p:spPr>
          <a:xfrm>
            <a:off x="2057400" y="289548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8" descr="ANd9GcR7sI2HOxFbSueW6n2podQRCCf8rm-Qf2h5ybp8LXHkZGdUXakKXw"/>
          <p:cNvPicPr/>
          <p:nvPr/>
        </p:nvPicPr>
        <p:blipFill>
          <a:blip r:embed="rId11">
            <a:lum contrast="6000"/>
          </a:blip>
          <a:stretch/>
        </p:blipFill>
        <p:spPr>
          <a:xfrm>
            <a:off x="-27000" y="1503360"/>
            <a:ext cx="2563920" cy="17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2" descr="84451291_the_notebook_movie_answer_2_xlarge"/>
          <p:cNvPicPr/>
          <p:nvPr/>
        </p:nvPicPr>
        <p:blipFill>
          <a:blip r:embed="rId12"/>
          <a:stretch/>
        </p:blipFill>
        <p:spPr>
          <a:xfrm>
            <a:off x="5867280" y="3505320"/>
            <a:ext cx="1623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6" descr="tumblr_m1gcylpovf1r17rbho1_400"/>
          <p:cNvPicPr/>
          <p:nvPr/>
        </p:nvPicPr>
        <p:blipFill>
          <a:blip r:embed="rId13"/>
          <a:stretch/>
        </p:blipFill>
        <p:spPr>
          <a:xfrm>
            <a:off x="0" y="554364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0" descr="movies_the_notebook-11441"/>
          <p:cNvPicPr/>
          <p:nvPr/>
        </p:nvPicPr>
        <p:blipFill>
          <a:blip r:embed="rId14"/>
          <a:stretch/>
        </p:blipFill>
        <p:spPr>
          <a:xfrm>
            <a:off x="4952880" y="14479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4" descr="tumblr_m80avsMyS11r5xphdo2_1280"/>
          <p:cNvPicPr/>
          <p:nvPr/>
        </p:nvPicPr>
        <p:blipFill>
          <a:blip r:embed="rId15"/>
          <a:stretch/>
        </p:blipFill>
        <p:spPr>
          <a:xfrm>
            <a:off x="1676520" y="5638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5" descr=""/>
          <p:cNvPicPr/>
          <p:nvPr/>
        </p:nvPicPr>
        <p:blipFill>
          <a:blip r:embed="rId16"/>
          <a:stretch/>
        </p:blipFill>
        <p:spPr>
          <a:xfrm>
            <a:off x="2486160" y="14223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6" descr=""/>
          <p:cNvPicPr/>
          <p:nvPr/>
        </p:nvPicPr>
        <p:blipFill>
          <a:blip r:embed="rId17"/>
          <a:stretch/>
        </p:blipFill>
        <p:spPr>
          <a:xfrm>
            <a:off x="3209760" y="-20520"/>
            <a:ext cx="2428920" cy="161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7" descr=""/>
          <p:cNvPicPr/>
          <p:nvPr/>
        </p:nvPicPr>
        <p:blipFill>
          <a:blip r:embed="rId18"/>
          <a:stretch/>
        </p:blipFill>
        <p:spPr>
          <a:xfrm>
            <a:off x="3705120" y="2603520"/>
            <a:ext cx="237348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"/>
          <p:cNvPicPr/>
          <p:nvPr/>
        </p:nvPicPr>
        <p:blipFill>
          <a:blip r:embed="rId19"/>
          <a:stretch/>
        </p:blipFill>
        <p:spPr>
          <a:xfrm>
            <a:off x="3865680" y="3913200"/>
            <a:ext cx="2057400" cy="1368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107440" y="152280"/>
            <a:ext cx="4959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575d1"/>
                </a:solidFill>
                <a:uFillTx/>
                <a:latin typeface="Britannic Bold"/>
              </a:rPr>
              <a:t>El Cine</a:t>
            </a:r>
            <a:r>
              <a:rPr b="1" lang="en-US" sz="2400" spc="-1" strike="noStrike">
                <a:solidFill>
                  <a:srgbClr val="7575d1"/>
                </a:solidFill>
                <a:latin typeface="Britannic Bold"/>
              </a:rPr>
              <a:t> de Películas Fantás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3886200"/>
            <a:ext cx="3708360" cy="313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¡Un evento d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lícul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omántic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A WALK TO REMEMBER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, THE V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THE NOT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s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Sesiones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El trece de febrero a las ocho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El catorce de febrero a las siete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as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Entradas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Para niños: siet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Para adultos: once dólares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¡</a:t>
            </a:r>
            <a:r>
              <a:rPr b="1" lang="es-ES" sz="1200" spc="-1" strike="noStrike">
                <a:solidFill>
                  <a:srgbClr val="00ff00"/>
                </a:solidFill>
                <a:latin typeface="Arial"/>
              </a:rPr>
              <a:t>Cincuenta por ciento de descuento para los bebé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70c0"/>
                </a:solidFill>
                <a:latin typeface="Arial"/>
              </a:rPr>
              <a:t>Se pueden comprar en </a:t>
            </a:r>
            <a:r>
              <a:rPr b="1" lang="es-ES" sz="1200" spc="-1" strike="noStrike" u="sng">
                <a:solidFill>
                  <a:srgbClr val="0070c0"/>
                </a:solidFill>
                <a:uFillTx/>
                <a:latin typeface="Arial"/>
              </a:rPr>
              <a:t>la taquilla</a:t>
            </a:r>
            <a:r>
              <a:rPr b="1" lang="es-ES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Los actor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Mandy Moore y Shane West (A Walk to Remember) Ryan Gosling y Rachel McAdams (The Notebook) Channing Tatum y Rachel McAdams (The Vow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352680" y="838080"/>
            <a:ext cx="3909960" cy="234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un evento de películas románticas en el Cine de Películas Fantásticas. Las entradas cuestan siete dólares para los niños y once dólares para los adultos. Cincuenta por ciento de descuento para los bebés. Los actores son Ryan Gosling, Rachel McAdams, Channing Tatum, Mandy Moore, y Shane West.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La pantalla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es muy grande y claro. Las películas no es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oblado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. Son en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versión original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con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ubtítulos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en español. Hay palomitas, dulces, refrescos, y agua. Las butacas son muy comodos. Hay una fila bastante corto. Usted puede tomar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l autobús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,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l metro,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o un taxi para llegar al cine. Hay empleados que hablan españo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6:43:28Z</dcterms:created>
  <dc:creator>duichmar</dc:creator>
  <dc:description/>
  <dc:language>en-US</dc:language>
  <cp:lastModifiedBy>duichmar</cp:lastModifiedBy>
  <dcterms:modified xsi:type="dcterms:W3CDTF">2013-01-02T18:59:44Z</dcterms:modified>
  <cp:revision>14</cp:revision>
  <dc:subject/>
  <dc:title>Slide 1</dc:title>
</cp:coreProperties>
</file>